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camera.wav" ContentType="audio/x-wav"/>
  <Override PartName="/ppt/media/image6.wmf" ContentType="image/x-wmf"/>
  <Override PartName="/ppt/media/image11.wmf" ContentType="image/x-wmf"/>
  <Override PartName="/ppt/media/image28.wmf" ContentType="image/x-wmf"/>
  <Override PartName="/ppt/media/image3.jpeg" ContentType="image/jpeg"/>
  <Override PartName="/ppt/media/image4.png" ContentType="image/png"/>
  <Override PartName="/ppt/media/image12.wmf" ContentType="image/x-wmf"/>
  <Override PartName="/ppt/media/image30.jpeg" ContentType="image/jpe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B66-C8E0-4D7A-A812-587F47A2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AD9-B23D-4F59-983C-E2C162F7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E6B-88CA-42A4-ABB6-035F1DC5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E49-0390-45F3-92B6-D1A16E53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7E2-7C27-47B5-91A3-EE798D18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5FF-A33D-446B-B651-C969B8B8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830-4014-48FC-8FDD-9AD232D5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2DD-42AB-4D50-B7BA-9547C8C4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553-6FA4-4F7D-BD54-A9856A92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7B1-3FE0-4B89-9BCF-D15EE47A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DA5-3040-460F-958B-BF4CCE52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E3A-6D16-4214-AFDA-E6D08BC3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新课标教学网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xkbw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海量教学资源欢迎下载！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2F44-9203-440F-9DC1-5FFA5DC839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7.wm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218"/>
          <p:cNvSpPr txBox="1"/>
          <p:nvPr/>
        </p:nvSpPr>
        <p:spPr>
          <a:xfrm>
            <a:off x="1332000" y="2565360"/>
            <a:ext cx="6913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6.2</a:t>
            </a:r>
            <a:r>
              <a:rPr b="1" lang="zh-CN" sz="28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实际问题与反比例函数（</a:t>
            </a:r>
            <a:r>
              <a:rPr b="1" lang="en-US" sz="28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r>
              <a:rPr b="1" lang="zh-CN" sz="2800" spc="1" strike="noStrike">
                <a:ln w="19080">
                  <a:solidFill>
                    <a:srgbClr val="3366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）</a:t>
            </a:r>
            <a:endParaRPr b="1" lang="en-US" sz="2800" spc="1" strike="noStrike">
              <a:ln w="19080">
                <a:solidFill>
                  <a:srgbClr val="3366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在某一电路中，保持电压不变，电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安培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和电阻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欧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成反比例，当电阻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欧姆时，电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安培．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求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之间的函数关系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3041280"/>
            <a:ext cx="698472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：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=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时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=5×2=10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∴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23"/>
          <p:cNvSpPr txBox="1"/>
          <p:nvPr/>
        </p:nvSpPr>
        <p:spPr>
          <a:xfrm>
            <a:off x="0" y="0"/>
            <a:ext cx="10429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练习</a:t>
            </a:r>
            <a:endParaRPr b="1" lang="en-US" sz="2800" spc="1" strike="noStrike">
              <a:ln w="1260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5" name="Object 9" descr=""/>
          <p:cNvPicPr/>
          <p:nvPr/>
        </p:nvPicPr>
        <p:blipFill>
          <a:blip r:embed="rId1"/>
          <a:stretch/>
        </p:blipFill>
        <p:spPr>
          <a:xfrm>
            <a:off x="1403280" y="4219560"/>
            <a:ext cx="1503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692280"/>
            <a:ext cx="76899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当电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0.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时，求电阻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的值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：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=10/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，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=0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=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欧姆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7892"/>
          <p:cNvSpPr/>
          <p:nvPr/>
        </p:nvSpPr>
        <p:spPr>
          <a:xfrm>
            <a:off x="468360" y="4037040"/>
            <a:ext cx="835344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∵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=10/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比例系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增大而减小，即增减性不一致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∴电阻逐渐增大时那么电路中的电流将减小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7893"/>
          <p:cNvSpPr/>
          <p:nvPr/>
        </p:nvSpPr>
        <p:spPr>
          <a:xfrm>
            <a:off x="611280" y="27226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如果电路中用电器的可变电阻逐渐增大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那么电路中的电流将如何变化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24000" y="981000"/>
            <a:ext cx="8713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码头工人以每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吨的速度往一艘轮船装载货物，把轮船装载完毕恰好用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时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轮船到达目的地后开始卸货，卸货速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单位：吨／天）与卸货时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单位：天）之间有怎样的关系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由于遇到紧急情况，船上的货物必须在不超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内卸完，那么平均每天至少要卸多少吨货物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3" descr=""/>
          <p:cNvPicPr/>
          <p:nvPr/>
        </p:nvPicPr>
        <p:blipFill>
          <a:blip r:embed="rId1"/>
          <a:stretch/>
        </p:blipFill>
        <p:spPr>
          <a:xfrm>
            <a:off x="4495680" y="3270240"/>
            <a:ext cx="152640" cy="317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4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分析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根据装货速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装货时间＝货物的总量，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可以求出轮船装载货物的的总量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16000" y="5805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再根据卸货速度＝货物总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卸货时间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到ｖ与ｔ的函数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23"/>
          <p:cNvSpPr txBox="1"/>
          <p:nvPr/>
        </p:nvSpPr>
        <p:spPr>
          <a:xfrm>
            <a:off x="250920" y="189000"/>
            <a:ext cx="10429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练习</a:t>
            </a:r>
            <a:endParaRPr b="1" lang="en-US" sz="2800" spc="1" strike="noStrike">
              <a:ln w="1260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解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设轮船上的货物总量为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吨，则根据已知条件有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K=30 × 8=240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所以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与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的函数式为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v=240/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把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=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代入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v=240/t</a:t>
            </a:r>
            <a:br>
              <a:rPr sz="3200"/>
            </a:b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得，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v=240/5=48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（吨）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3933360"/>
            <a:ext cx="82296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从结果可以看出，如果全部货物恰好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天卸完，则平均每天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吨。当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时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越小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越大。若货物在不超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天内卸完，则平均每天至少要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50920" y="806400"/>
            <a:ext cx="8280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商场出售一批进价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的贺卡，在市场营销中发现此商品的日销售单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与日销售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有如下关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根据表中的数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平面直角坐标系中描出实数对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的对应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猜测并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式，并画出图象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设经营此贺卡的销售利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试求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式，若物价局规定此贺卡的销售价最高不能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／个，请你求出当日销售单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为多少元时，才能获得最大日销售利润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95640" y="1817640"/>
          <a:ext cx="4321080" cy="1038240"/>
        </p:xfrm>
        <a:graphic>
          <a:graphicData uri="http://schemas.openxmlformats.org/drawingml/2006/table">
            <a:tbl>
              <a:tblPr/>
              <a:tblGrid>
                <a:gridCol w="1512720"/>
                <a:gridCol w="790920"/>
                <a:gridCol w="649080"/>
                <a:gridCol w="720720"/>
                <a:gridCol w="6476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元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个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WordArt 23"/>
          <p:cNvSpPr txBox="1"/>
          <p:nvPr/>
        </p:nvSpPr>
        <p:spPr>
          <a:xfrm>
            <a:off x="0" y="0"/>
            <a:ext cx="10429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练习</a:t>
            </a:r>
            <a:endParaRPr b="1" lang="en-US" sz="2800" spc="1" strike="noStrike">
              <a:ln w="1260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解：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）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Object 9" descr=""/>
          <p:cNvPicPr/>
          <p:nvPr/>
        </p:nvPicPr>
        <p:blipFill>
          <a:blip r:embed="rId1"/>
          <a:stretch/>
        </p:blipFill>
        <p:spPr>
          <a:xfrm>
            <a:off x="6012000" y="1484280"/>
            <a:ext cx="1081080" cy="49536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9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1081080" cy="93024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9" descr=""/>
          <p:cNvPicPr/>
          <p:nvPr/>
        </p:nvPicPr>
        <p:blipFill>
          <a:blip r:embed="rId3"/>
          <a:stretch/>
        </p:blipFill>
        <p:spPr>
          <a:xfrm>
            <a:off x="4500720" y="1484280"/>
            <a:ext cx="1008000" cy="523800"/>
          </a:xfrm>
          <a:prstGeom prst="rect">
            <a:avLst/>
          </a:prstGeom>
          <a:ln w="0">
            <a:noFill/>
          </a:ln>
        </p:spPr>
      </p:pic>
      <p:sp>
        <p:nvSpPr>
          <p:cNvPr id="134" name="矩形 39939"/>
          <p:cNvSpPr/>
          <p:nvPr/>
        </p:nvSpPr>
        <p:spPr>
          <a:xfrm>
            <a:off x="324000" y="1484280"/>
            <a:ext cx="88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设           ， 把                                  代入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    中，得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=60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∴                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分别把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，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代入上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式均成立；∴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与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之间的函数关系式是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ject 9" descr=""/>
          <p:cNvPicPr/>
          <p:nvPr/>
        </p:nvPicPr>
        <p:blipFill>
          <a:blip r:embed="rId4"/>
          <a:stretch/>
        </p:blipFill>
        <p:spPr>
          <a:xfrm>
            <a:off x="611280" y="2276640"/>
            <a:ext cx="863640" cy="86328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9" descr=""/>
          <p:cNvPicPr/>
          <p:nvPr/>
        </p:nvPicPr>
        <p:blipFill>
          <a:blip r:embed="rId5"/>
          <a:stretch/>
        </p:blipFill>
        <p:spPr>
          <a:xfrm>
            <a:off x="197964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9" descr=""/>
          <p:cNvPicPr/>
          <p:nvPr/>
        </p:nvPicPr>
        <p:blipFill>
          <a:blip r:embed="rId6"/>
          <a:stretch/>
        </p:blipFill>
        <p:spPr>
          <a:xfrm>
            <a:off x="8062920" y="4221000"/>
            <a:ext cx="1081080" cy="930600"/>
          </a:xfrm>
          <a:prstGeom prst="rect">
            <a:avLst/>
          </a:prstGeom>
          <a:ln w="0">
            <a:noFill/>
          </a:ln>
        </p:spPr>
      </p:pic>
      <p:sp>
        <p:nvSpPr>
          <p:cNvPr id="138" name="矩形 39951"/>
          <p:cNvSpPr/>
          <p:nvPr/>
        </p:nvSpPr>
        <p:spPr>
          <a:xfrm>
            <a:off x="179280" y="515772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=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-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·y=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-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60 -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，  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=1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时，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有最大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9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473400" cy="8636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9" descr=""/>
          <p:cNvPicPr/>
          <p:nvPr/>
        </p:nvPicPr>
        <p:blipFill>
          <a:blip r:embed="rId8"/>
          <a:stretch/>
        </p:blipFill>
        <p:spPr>
          <a:xfrm>
            <a:off x="6516720" y="5084640"/>
            <a:ext cx="612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66560" y="447840"/>
            <a:ext cx="820908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辆汽车往返于甲、乙两地之间，如果汽车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／时的平均速度从甲地出发，则经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可达到乙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甲、乙两地相距多少千米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写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间的函数关系式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因某种原因，这辆汽车需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内从乙地到甲地，则此汽车的平均速度至少应是多少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已知甲、乙两地限速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，如果一辆汽车早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从甲地出发，什么时候回到甲地就说明该车有超速违规的行为（路上的速度均保持不变，其余时间忽略不计）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甲、乙两地相距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×6=3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ject 9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863640" cy="76500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9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145" name="矩形 45059"/>
          <p:cNvSpPr/>
          <p:nvPr/>
        </p:nvSpPr>
        <p:spPr>
          <a:xfrm>
            <a:off x="324000" y="1339920"/>
            <a:ext cx="82803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函数关系式为                     </a:t>
            </a:r>
            <a:br>
              <a:rPr sz="2800"/>
            </a:br>
            <a:br>
              <a:rPr sz="1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汽车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／时的平均速度从甲地出发，则经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可达到乙地</a:t>
            </a:r>
            <a:br>
              <a:rPr sz="2400"/>
            </a:br>
            <a:br>
              <a:rPr sz="1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                  解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=300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间的函数关系式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5063"/>
          <p:cNvSpPr/>
          <p:nvPr/>
        </p:nvSpPr>
        <p:spPr>
          <a:xfrm>
            <a:off x="1332000" y="4076640"/>
            <a:ext cx="36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Object 9" descr=""/>
          <p:cNvPicPr/>
          <p:nvPr/>
        </p:nvPicPr>
        <p:blipFill>
          <a:blip r:embed="rId3"/>
          <a:stretch/>
        </p:blipFill>
        <p:spPr>
          <a:xfrm>
            <a:off x="4572000" y="3284640"/>
            <a:ext cx="1079640" cy="858600"/>
          </a:xfrm>
          <a:prstGeom prst="rect">
            <a:avLst/>
          </a:prstGeom>
          <a:ln w="0">
            <a:noFill/>
          </a:ln>
        </p:spPr>
      </p:pic>
      <p:sp>
        <p:nvSpPr>
          <p:cNvPr id="148" name="矩形 45068"/>
          <p:cNvSpPr/>
          <p:nvPr/>
        </p:nvSpPr>
        <p:spPr>
          <a:xfrm>
            <a:off x="250920" y="3933720"/>
            <a:ext cx="8229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=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=300/5=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5069"/>
          <p:cNvSpPr/>
          <p:nvPr/>
        </p:nvSpPr>
        <p:spPr>
          <a:xfrm>
            <a:off x="395280" y="4508640"/>
            <a:ext cx="8748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返回甲地超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/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+4=1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到甲地就说明该车有超速违规的行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Image4"/>
          <p:cNvPicPr/>
          <p:nvPr/>
        </p:nvPicPr>
        <p:blipFill>
          <a:blip r:embed="rId1">
            <a:lum contrast="84000"/>
          </a:blip>
          <a:srcRect l="13769" t="8110" r="12835" b="20424"/>
          <a:stretch/>
        </p:blipFill>
        <p:spPr>
          <a:xfrm>
            <a:off x="5800680" y="3657600"/>
            <a:ext cx="3171960" cy="32194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28600" y="5105520"/>
            <a:ext cx="6172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试着在坐标轴上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D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使△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OD≌△BO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385080" y="2286000"/>
            <a:ext cx="10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分别写出这两个函数的表达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80880" y="2895480"/>
            <a:ext cx="586764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你能求出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坐标吗？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你是怎样求的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04920" y="4038480"/>
            <a:ext cx="632448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若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坐标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请求△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O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面积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457200" y="0"/>
            <a:ext cx="7580160" cy="2262960"/>
            <a:chOff x="457200" y="0"/>
            <a:chExt cx="7580160" cy="2262960"/>
          </a:xfrm>
        </p:grpSpPr>
        <p:grpSp>
          <p:nvGrpSpPr>
            <p:cNvPr id="156" name="Group 8"/>
            <p:cNvGrpSpPr/>
            <p:nvPr/>
          </p:nvGrpSpPr>
          <p:grpSpPr>
            <a:xfrm>
              <a:off x="457200" y="0"/>
              <a:ext cx="7580160" cy="2262960"/>
              <a:chOff x="457200" y="0"/>
              <a:chExt cx="7580160" cy="2262960"/>
            </a:xfrm>
          </p:grpSpPr>
          <p:sp>
            <p:nvSpPr>
              <p:cNvPr id="157" name="Rectangle 9"/>
              <p:cNvSpPr/>
              <p:nvPr/>
            </p:nvSpPr>
            <p:spPr>
              <a:xfrm>
                <a:off x="457200" y="0"/>
                <a:ext cx="7580160" cy="226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隶书"/>
                    <a:ea typeface="隶书"/>
                  </a:rPr>
                  <a:t>4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隶书"/>
                    <a:ea typeface="隶书"/>
                  </a:rPr>
                  <a:t>、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如图所示，正比例函数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y=k</a:t>
                </a:r>
                <a:r>
                  <a:rPr b="1" lang="zh-CN" sz="3200" spc="-1" strike="noStrike" baseline="-30000">
                    <a:solidFill>
                      <a:srgbClr val="000000"/>
                    </a:solidFill>
                    <a:latin typeface="隶书"/>
                    <a:ea typeface="隶书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x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的图象与反比例函数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y=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的图象交于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、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B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两点，其中点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的坐标为（    ，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2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）。 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Group 10"/>
              <p:cNvGrpSpPr/>
              <p:nvPr/>
            </p:nvGrpSpPr>
            <p:grpSpPr>
              <a:xfrm>
                <a:off x="3710160" y="1677960"/>
                <a:ext cx="574560" cy="459720"/>
                <a:chOff x="3710160" y="1677960"/>
                <a:chExt cx="574560" cy="459720"/>
              </a:xfrm>
            </p:grpSpPr>
            <p:sp>
              <p:nvSpPr>
                <p:cNvPr id="159" name="Freeform 11"/>
                <p:cNvSpPr/>
                <p:nvPr/>
              </p:nvSpPr>
              <p:spPr>
                <a:xfrm>
                  <a:off x="3710160" y="1749240"/>
                  <a:ext cx="503280" cy="360360"/>
                </a:xfrm>
                <a:custGeom>
                  <a:avLst/>
                  <a:gdLst/>
                  <a:ahLst/>
                  <a:rect l="l" t="t" r="r" b="b"/>
                  <a:pathLst>
                    <a:path w="635" h="317">
                      <a:moveTo>
                        <a:pt x="0" y="181"/>
                      </a:moveTo>
                      <a:lnTo>
                        <a:pt x="136" y="317"/>
                      </a:lnTo>
                      <a:lnTo>
                        <a:pt x="181" y="0"/>
                      </a:lnTo>
                      <a:lnTo>
                        <a:pt x="635" y="0"/>
                      </a:lnTo>
                    </a:path>
                  </a:pathLst>
                </a:cu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12"/>
                <p:cNvSpPr/>
                <p:nvPr/>
              </p:nvSpPr>
              <p:spPr>
                <a:xfrm>
                  <a:off x="3853080" y="167796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13"/>
              <p:cNvGrpSpPr/>
              <p:nvPr/>
            </p:nvGrpSpPr>
            <p:grpSpPr>
              <a:xfrm>
                <a:off x="5045040" y="1639800"/>
                <a:ext cx="574560" cy="459720"/>
                <a:chOff x="5045040" y="1639800"/>
                <a:chExt cx="574560" cy="459720"/>
              </a:xfrm>
            </p:grpSpPr>
            <p:sp>
              <p:nvSpPr>
                <p:cNvPr id="162" name="Freeform 14"/>
                <p:cNvSpPr/>
                <p:nvPr/>
              </p:nvSpPr>
              <p:spPr>
                <a:xfrm>
                  <a:off x="5045040" y="1711080"/>
                  <a:ext cx="503280" cy="360360"/>
                </a:xfrm>
                <a:custGeom>
                  <a:avLst/>
                  <a:gdLst/>
                  <a:ahLst/>
                  <a:rect l="l" t="t" r="r" b="b"/>
                  <a:pathLst>
                    <a:path w="635" h="317">
                      <a:moveTo>
                        <a:pt x="0" y="181"/>
                      </a:moveTo>
                      <a:lnTo>
                        <a:pt x="136" y="317"/>
                      </a:lnTo>
                      <a:lnTo>
                        <a:pt x="181" y="0"/>
                      </a:lnTo>
                      <a:lnTo>
                        <a:pt x="635" y="0"/>
                      </a:lnTo>
                    </a:path>
                  </a:pathLst>
                </a:cu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15"/>
                <p:cNvSpPr/>
                <p:nvPr/>
              </p:nvSpPr>
              <p:spPr>
                <a:xfrm>
                  <a:off x="5187960" y="163980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Group 16"/>
            <p:cNvGrpSpPr/>
            <p:nvPr/>
          </p:nvGrpSpPr>
          <p:grpSpPr>
            <a:xfrm>
              <a:off x="3029040" y="685800"/>
              <a:ext cx="445320" cy="916920"/>
              <a:chOff x="3029040" y="685800"/>
              <a:chExt cx="445320" cy="916920"/>
            </a:xfrm>
          </p:grpSpPr>
          <p:sp>
            <p:nvSpPr>
              <p:cNvPr id="165" name="Text Box 17"/>
              <p:cNvSpPr/>
              <p:nvPr/>
            </p:nvSpPr>
            <p:spPr>
              <a:xfrm>
                <a:off x="3035880" y="68580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8"/>
              <p:cNvSpPr/>
              <p:nvPr/>
            </p:nvSpPr>
            <p:spPr>
              <a:xfrm>
                <a:off x="3043080" y="1177920"/>
                <a:ext cx="3808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9"/>
              <p:cNvSpPr/>
              <p:nvPr/>
            </p:nvSpPr>
            <p:spPr>
              <a:xfrm>
                <a:off x="3029040" y="114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Line 20"/>
          <p:cNvSpPr/>
          <p:nvPr/>
        </p:nvSpPr>
        <p:spPr>
          <a:xfrm flipH="1" flipV="1">
            <a:off x="7276680" y="3714840"/>
            <a:ext cx="19080" cy="3047760"/>
          </a:xfrm>
          <a:prstGeom prst="line">
            <a:avLst/>
          </a:prstGeom>
          <a:ln cap="sq"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5867280" y="5353200"/>
            <a:ext cx="2971800" cy="0"/>
          </a:xfrm>
          <a:prstGeom prst="line">
            <a:avLst/>
          </a:prstGeom>
          <a:ln cap="sq"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2"/>
          <p:cNvGrpSpPr/>
          <p:nvPr/>
        </p:nvGrpSpPr>
        <p:grpSpPr>
          <a:xfrm>
            <a:off x="6007680" y="4724280"/>
            <a:ext cx="926640" cy="1379520"/>
            <a:chOff x="6007680" y="4724280"/>
            <a:chExt cx="926640" cy="1379520"/>
          </a:xfrm>
        </p:grpSpPr>
        <p:sp>
          <p:nvSpPr>
            <p:cNvPr id="171" name="Oval 23"/>
            <p:cNvSpPr/>
            <p:nvPr/>
          </p:nvSpPr>
          <p:spPr>
            <a:xfrm>
              <a:off x="6157800" y="5314680"/>
              <a:ext cx="71640" cy="71640"/>
            </a:xfrm>
            <a:prstGeom prst="ellipse">
              <a:avLst/>
            </a:prstGeom>
            <a:solidFill>
              <a:srgbClr val="cc00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24"/>
            <p:cNvGrpSpPr/>
            <p:nvPr/>
          </p:nvGrpSpPr>
          <p:grpSpPr>
            <a:xfrm>
              <a:off x="6007680" y="4724280"/>
              <a:ext cx="926640" cy="1379520"/>
              <a:chOff x="6007680" y="4724280"/>
              <a:chExt cx="926640" cy="1379520"/>
            </a:xfrm>
          </p:grpSpPr>
          <p:sp>
            <p:nvSpPr>
              <p:cNvPr id="173" name="Text Box 25"/>
              <p:cNvSpPr/>
              <p:nvPr/>
            </p:nvSpPr>
            <p:spPr>
              <a:xfrm>
                <a:off x="6007680" y="4724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26"/>
              <p:cNvSpPr/>
              <p:nvPr/>
            </p:nvSpPr>
            <p:spPr>
              <a:xfrm>
                <a:off x="6216480" y="5395680"/>
                <a:ext cx="717840" cy="708120"/>
              </a:xfrm>
              <a:prstGeom prst="line">
                <a:avLst/>
              </a:prstGeom>
              <a:ln cap="sq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27"/>
              <p:cNvSpPr/>
              <p:nvPr/>
            </p:nvSpPr>
            <p:spPr>
              <a:xfrm>
                <a:off x="6210360" y="5357520"/>
                <a:ext cx="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28"/>
          <p:cNvGrpSpPr/>
          <p:nvPr/>
        </p:nvGrpSpPr>
        <p:grpSpPr>
          <a:xfrm>
            <a:off x="7696080" y="4667400"/>
            <a:ext cx="897840" cy="1278720"/>
            <a:chOff x="7696080" y="4667400"/>
            <a:chExt cx="897840" cy="1278720"/>
          </a:xfrm>
        </p:grpSpPr>
        <p:sp>
          <p:nvSpPr>
            <p:cNvPr id="177" name="Oval 29"/>
            <p:cNvSpPr/>
            <p:nvPr/>
          </p:nvSpPr>
          <p:spPr>
            <a:xfrm>
              <a:off x="8362800" y="5315040"/>
              <a:ext cx="71640" cy="71640"/>
            </a:xfrm>
            <a:prstGeom prst="ellipse">
              <a:avLst/>
            </a:prstGeom>
            <a:solidFill>
              <a:srgbClr val="cc00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0"/>
            <p:cNvSpPr/>
            <p:nvPr/>
          </p:nvSpPr>
          <p:spPr>
            <a:xfrm>
              <a:off x="8193600" y="5486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1"/>
            <p:cNvSpPr/>
            <p:nvPr/>
          </p:nvSpPr>
          <p:spPr>
            <a:xfrm>
              <a:off x="7696080" y="4667400"/>
              <a:ext cx="717480" cy="70812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32"/>
          <p:cNvSpPr/>
          <p:nvPr/>
        </p:nvSpPr>
        <p:spPr>
          <a:xfrm>
            <a:off x="7741800" y="5651640"/>
            <a:ext cx="13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32529278"/>
          <p:cNvPicPr/>
          <p:nvPr/>
        </p:nvPicPr>
        <p:blipFill>
          <a:blip r:embed="rId1"/>
          <a:stretch/>
        </p:blipFill>
        <p:spPr>
          <a:xfrm>
            <a:off x="0" y="4419720"/>
            <a:ext cx="8915400" cy="2438280"/>
          </a:xfrm>
          <a:prstGeom prst="rect">
            <a:avLst/>
          </a:prstGeom>
          <a:ln w="0">
            <a:noFill/>
          </a:ln>
        </p:spPr>
      </p:pic>
      <p:sp>
        <p:nvSpPr>
          <p:cNvPr id="182" name="WordArt 3"/>
          <p:cNvSpPr txBox="1"/>
          <p:nvPr/>
        </p:nvSpPr>
        <p:spPr>
          <a:xfrm>
            <a:off x="2209680" y="838080"/>
            <a:ext cx="4496040" cy="242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下课啦！</a:t>
            </a:r>
            <a:endParaRPr b="1" lang="en-US" sz="2800" spc="1" strike="noStrike">
              <a:ln w="9360">
                <a:solidFill>
                  <a:srgbClr val="0000ff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5" descr=""/>
          <p:cNvPicPr/>
          <p:nvPr/>
        </p:nvPicPr>
        <p:blipFill>
          <a:blip r:embed="rId1"/>
          <a:srcRect l="0" t="0" r="0" b="34696"/>
          <a:stretch/>
        </p:blipFill>
        <p:spPr>
          <a:xfrm>
            <a:off x="3708360" y="549360"/>
            <a:ext cx="4608720" cy="213192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32773"/>
          <p:cNvGrpSpPr/>
          <p:nvPr/>
        </p:nvGrpSpPr>
        <p:grpSpPr>
          <a:xfrm>
            <a:off x="826920" y="3789360"/>
            <a:ext cx="8498160" cy="1681200"/>
            <a:chOff x="826920" y="3789360"/>
            <a:chExt cx="8498160" cy="1681200"/>
          </a:xfrm>
        </p:grpSpPr>
        <p:sp>
          <p:nvSpPr>
            <p:cNvPr id="44" name="矩形 32785"/>
            <p:cNvSpPr/>
            <p:nvPr/>
          </p:nvSpPr>
          <p:spPr>
            <a:xfrm>
              <a:off x="826920" y="3789360"/>
              <a:ext cx="849816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32778"/>
            <p:cNvGrpSpPr/>
            <p:nvPr/>
          </p:nvGrpSpPr>
          <p:grpSpPr>
            <a:xfrm>
              <a:off x="826920" y="3789360"/>
              <a:ext cx="8497800" cy="1227960"/>
              <a:chOff x="826920" y="3789360"/>
              <a:chExt cx="8497800" cy="1227960"/>
            </a:xfrm>
          </p:grpSpPr>
          <p:sp>
            <p:nvSpPr>
              <p:cNvPr id="46" name="Rectangle 11"/>
              <p:cNvSpPr/>
              <p:nvPr/>
            </p:nvSpPr>
            <p:spPr>
              <a:xfrm>
                <a:off x="1439280" y="4404240"/>
                <a:ext cx="7189200" cy="173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12"/>
              <p:cNvSpPr/>
              <p:nvPr/>
            </p:nvSpPr>
            <p:spPr>
              <a:xfrm>
                <a:off x="3631320" y="4578480"/>
                <a:ext cx="349560" cy="438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3"/>
              <p:cNvSpPr/>
              <p:nvPr/>
            </p:nvSpPr>
            <p:spPr>
              <a:xfrm>
                <a:off x="1528560" y="3876120"/>
                <a:ext cx="0" cy="43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4"/>
              <p:cNvSpPr/>
              <p:nvPr/>
            </p:nvSpPr>
            <p:spPr>
              <a:xfrm>
                <a:off x="8539920" y="3789360"/>
                <a:ext cx="0" cy="52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Text Box 15"/>
              <p:cNvSpPr/>
              <p:nvPr/>
            </p:nvSpPr>
            <p:spPr>
              <a:xfrm>
                <a:off x="826920" y="3789360"/>
                <a:ext cx="78444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480" rIns="6948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阻力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16"/>
              <p:cNvSpPr/>
              <p:nvPr/>
            </p:nvSpPr>
            <p:spPr>
              <a:xfrm>
                <a:off x="8539920" y="3876120"/>
                <a:ext cx="78480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480" rIns="6948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动力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Freeform 24"/>
            <p:cNvSpPr/>
            <p:nvPr/>
          </p:nvSpPr>
          <p:spPr>
            <a:xfrm>
              <a:off x="1352160" y="4665960"/>
              <a:ext cx="2280600" cy="262800"/>
            </a:xfrm>
            <a:custGeom>
              <a:avLst/>
              <a:gdLst/>
              <a:ahLst/>
              <a:rect l="l" t="t" r="r" b="b"/>
              <a:pathLst>
                <a:path w="1074" h="234">
                  <a:moveTo>
                    <a:pt x="31" y="0"/>
                  </a:moveTo>
                  <a:lnTo>
                    <a:pt x="15" y="38"/>
                  </a:lnTo>
                  <a:lnTo>
                    <a:pt x="0" y="76"/>
                  </a:lnTo>
                  <a:lnTo>
                    <a:pt x="76" y="91"/>
                  </a:lnTo>
                  <a:lnTo>
                    <a:pt x="152" y="106"/>
                  </a:lnTo>
                  <a:lnTo>
                    <a:pt x="402" y="68"/>
                  </a:lnTo>
                  <a:lnTo>
                    <a:pt x="485" y="91"/>
                  </a:lnTo>
                  <a:lnTo>
                    <a:pt x="568" y="114"/>
                  </a:lnTo>
                  <a:lnTo>
                    <a:pt x="545" y="220"/>
                  </a:lnTo>
                  <a:lnTo>
                    <a:pt x="575" y="227"/>
                  </a:lnTo>
                  <a:lnTo>
                    <a:pt x="605" y="234"/>
                  </a:lnTo>
                  <a:lnTo>
                    <a:pt x="598" y="159"/>
                  </a:lnTo>
                  <a:lnTo>
                    <a:pt x="666" y="136"/>
                  </a:lnTo>
                  <a:lnTo>
                    <a:pt x="734" y="113"/>
                  </a:lnTo>
                  <a:lnTo>
                    <a:pt x="915" y="114"/>
                  </a:lnTo>
                  <a:lnTo>
                    <a:pt x="983" y="91"/>
                  </a:lnTo>
                  <a:lnTo>
                    <a:pt x="1051" y="68"/>
                  </a:lnTo>
                  <a:lnTo>
                    <a:pt x="1059" y="15"/>
                  </a:lnTo>
                  <a:lnTo>
                    <a:pt x="107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5"/>
            <p:cNvSpPr/>
            <p:nvPr/>
          </p:nvSpPr>
          <p:spPr>
            <a:xfrm>
              <a:off x="3895920" y="4665960"/>
              <a:ext cx="4732560" cy="262800"/>
            </a:xfrm>
            <a:custGeom>
              <a:avLst/>
              <a:gdLst/>
              <a:ahLst/>
              <a:rect l="l" t="t" r="r" b="b"/>
              <a:pathLst>
                <a:path w="1074" h="234">
                  <a:moveTo>
                    <a:pt x="31" y="0"/>
                  </a:moveTo>
                  <a:lnTo>
                    <a:pt x="15" y="38"/>
                  </a:lnTo>
                  <a:lnTo>
                    <a:pt x="0" y="76"/>
                  </a:lnTo>
                  <a:lnTo>
                    <a:pt x="76" y="91"/>
                  </a:lnTo>
                  <a:lnTo>
                    <a:pt x="152" y="106"/>
                  </a:lnTo>
                  <a:lnTo>
                    <a:pt x="402" y="68"/>
                  </a:lnTo>
                  <a:lnTo>
                    <a:pt x="485" y="91"/>
                  </a:lnTo>
                  <a:lnTo>
                    <a:pt x="568" y="114"/>
                  </a:lnTo>
                  <a:lnTo>
                    <a:pt x="545" y="220"/>
                  </a:lnTo>
                  <a:lnTo>
                    <a:pt x="575" y="227"/>
                  </a:lnTo>
                  <a:lnTo>
                    <a:pt x="605" y="234"/>
                  </a:lnTo>
                  <a:lnTo>
                    <a:pt x="598" y="159"/>
                  </a:lnTo>
                  <a:lnTo>
                    <a:pt x="666" y="136"/>
                  </a:lnTo>
                  <a:lnTo>
                    <a:pt x="734" y="113"/>
                  </a:lnTo>
                  <a:lnTo>
                    <a:pt x="915" y="114"/>
                  </a:lnTo>
                  <a:lnTo>
                    <a:pt x="983" y="91"/>
                  </a:lnTo>
                  <a:lnTo>
                    <a:pt x="1051" y="68"/>
                  </a:lnTo>
                  <a:lnTo>
                    <a:pt x="1059" y="15"/>
                  </a:lnTo>
                  <a:lnTo>
                    <a:pt x="107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32775"/>
            <p:cNvSpPr/>
            <p:nvPr/>
          </p:nvSpPr>
          <p:spPr>
            <a:xfrm>
              <a:off x="2205000" y="5023080"/>
              <a:ext cx="10648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7"/>
            <p:cNvSpPr/>
            <p:nvPr/>
          </p:nvSpPr>
          <p:spPr>
            <a:xfrm>
              <a:off x="5911560" y="4928760"/>
              <a:ext cx="106488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动力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图片 32772" descr="F:/chromedownloads/http:/www.pep.com.cn/czsx/jszx/jnjxc/jxsj/200710/W020070929617495792939.gif"/>
          <p:cNvPicPr/>
          <p:nvPr/>
        </p:nvPicPr>
        <p:blipFill>
          <a:blip r:embed="rId3"/>
          <a:stretch/>
        </p:blipFill>
        <p:spPr>
          <a:xfrm>
            <a:off x="0" y="4984920"/>
            <a:ext cx="114480" cy="1234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2771" descr="F:/chromedownloads/http:/www.pep.com.cn/czsx/jszx/jnjxc/jxsj/200710/W020070929617495792939.gif"/>
          <p:cNvPicPr/>
          <p:nvPr/>
        </p:nvPicPr>
        <p:blipFill>
          <a:blip r:embed="rId4"/>
          <a:stretch/>
        </p:blipFill>
        <p:spPr>
          <a:xfrm>
            <a:off x="0" y="5353200"/>
            <a:ext cx="114480" cy="123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6"/>
          <p:cNvSpPr/>
          <p:nvPr/>
        </p:nvSpPr>
        <p:spPr>
          <a:xfrm>
            <a:off x="3635280" y="3716280"/>
            <a:ext cx="4572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支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2788"/>
          <p:cNvSpPr/>
          <p:nvPr/>
        </p:nvSpPr>
        <p:spPr>
          <a:xfrm>
            <a:off x="1186560" y="267840"/>
            <a:ext cx="211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一、复习巩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2789"/>
          <p:cNvSpPr/>
          <p:nvPr/>
        </p:nvSpPr>
        <p:spPr>
          <a:xfrm>
            <a:off x="3440520" y="2852280"/>
            <a:ext cx="235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给我一个支点，我可以撬动地球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阿基米德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2790"/>
          <p:cNvSpPr/>
          <p:nvPr/>
        </p:nvSpPr>
        <p:spPr>
          <a:xfrm>
            <a:off x="0" y="369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2799"/>
          <p:cNvSpPr/>
          <p:nvPr/>
        </p:nvSpPr>
        <p:spPr>
          <a:xfrm>
            <a:off x="250920" y="5804640"/>
            <a:ext cx="21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阻力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32800"/>
          <p:cNvSpPr/>
          <p:nvPr/>
        </p:nvSpPr>
        <p:spPr>
          <a:xfrm>
            <a:off x="2268360" y="5799960"/>
            <a:ext cx="33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阻力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动力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2805"/>
          <p:cNvSpPr/>
          <p:nvPr/>
        </p:nvSpPr>
        <p:spPr>
          <a:xfrm>
            <a:off x="1813320" y="48315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阻力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2806"/>
          <p:cNvSpPr/>
          <p:nvPr/>
        </p:nvSpPr>
        <p:spPr>
          <a:xfrm>
            <a:off x="4152600" y="57679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动力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50920" y="0"/>
            <a:ext cx="889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伟欲用撬棍撬动一块大石头，已知阻力和阻力臂分别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200N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.5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动力与动力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怎样的函数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动力臂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5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，撬动石头至少需要多大的力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2133720"/>
            <a:ext cx="711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“杠杆原理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=1200×0.5=6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082880" y="3270240"/>
            <a:ext cx="330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解析式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4000" y="486900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函数                ，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=1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=400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此时杠杆平衡，因此，撬动石头至少需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0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70320" y="4133880"/>
            <a:ext cx="19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=1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对象 1040" descr=""/>
          <p:cNvPicPr/>
          <p:nvPr/>
        </p:nvPicPr>
        <p:blipFill>
          <a:blip r:embed="rId1"/>
          <a:stretch/>
        </p:blipFill>
        <p:spPr>
          <a:xfrm>
            <a:off x="5580000" y="3138480"/>
            <a:ext cx="1230480" cy="866880"/>
          </a:xfrm>
          <a:prstGeom prst="rect">
            <a:avLst/>
          </a:prstGeom>
          <a:ln w="0">
            <a:noFill/>
          </a:ln>
        </p:spPr>
      </p:pic>
      <p:pic>
        <p:nvPicPr>
          <p:cNvPr id="72" name="对象 1042" descr=""/>
          <p:cNvPicPr/>
          <p:nvPr/>
        </p:nvPicPr>
        <p:blipFill>
          <a:blip r:embed="rId2"/>
          <a:stretch/>
        </p:blipFill>
        <p:spPr>
          <a:xfrm>
            <a:off x="2771640" y="3930480"/>
            <a:ext cx="2600640" cy="866880"/>
          </a:xfrm>
          <a:prstGeom prst="rect">
            <a:avLst/>
          </a:prstGeom>
          <a:ln w="0">
            <a:noFill/>
          </a:ln>
        </p:spPr>
      </p:pic>
      <p:pic>
        <p:nvPicPr>
          <p:cNvPr id="73" name="对象 1043" descr=""/>
          <p:cNvPicPr/>
          <p:nvPr/>
        </p:nvPicPr>
        <p:blipFill>
          <a:blip r:embed="rId3"/>
          <a:stretch/>
        </p:blipFill>
        <p:spPr>
          <a:xfrm>
            <a:off x="2050920" y="4797360"/>
            <a:ext cx="93672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16286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函数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增大而减小。因此，只要求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200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对应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值，就能确定动力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至少应加长的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ject 3" descr=""/>
          <p:cNvPicPr/>
          <p:nvPr/>
        </p:nvPicPr>
        <p:blipFill>
          <a:blip r:embed="rId1"/>
          <a:stretch/>
        </p:blipFill>
        <p:spPr>
          <a:xfrm>
            <a:off x="3059280" y="1428840"/>
            <a:ext cx="1225440" cy="753840"/>
          </a:xfrm>
          <a:prstGeom prst="rect">
            <a:avLst/>
          </a:prstGeom>
          <a:ln w="0">
            <a:noFill/>
          </a:ln>
        </p:spPr>
      </p:pic>
      <p:pic>
        <p:nvPicPr>
          <p:cNvPr id="76" name="Object 4" descr=""/>
          <p:cNvPicPr/>
          <p:nvPr/>
        </p:nvPicPr>
        <p:blipFill>
          <a:blip r:embed="rId2"/>
          <a:stretch/>
        </p:blipFill>
        <p:spPr>
          <a:xfrm>
            <a:off x="1979640" y="3510000"/>
            <a:ext cx="2376360" cy="934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609480" y="457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若想使动力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超题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中所用力的一半，则动力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至少要加长多少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755640" y="2852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=4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     =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=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1763640" y="4581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1.5=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3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285840" cy="741240"/>
          </a:xfrm>
          <a:prstGeom prst="rect">
            <a:avLst/>
          </a:prstGeom>
          <a:ln w="0">
            <a:noFill/>
          </a:ln>
        </p:spPr>
      </p:pic>
      <p:pic>
        <p:nvPicPr>
          <p:cNvPr id="81" name="Object 3" descr=""/>
          <p:cNvPicPr/>
          <p:nvPr/>
        </p:nvPicPr>
        <p:blipFill>
          <a:blip r:embed="rId4"/>
          <a:stretch/>
        </p:blipFill>
        <p:spPr>
          <a:xfrm>
            <a:off x="5894280" y="2687760"/>
            <a:ext cx="600120" cy="812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611280" y="530064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函数                   ，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越大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越小。因此，若想用力不超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一半 ，则动力臂至少要加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m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3" descr=""/>
          <p:cNvPicPr/>
          <p:nvPr/>
        </p:nvPicPr>
        <p:blipFill>
          <a:blip r:embed="rId5"/>
          <a:stretch/>
        </p:blipFill>
        <p:spPr>
          <a:xfrm>
            <a:off x="1979640" y="5084640"/>
            <a:ext cx="122544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3588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（补）小刚、小强、小健、分别选取了动力臂为为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米、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米、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米的撬棍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你能得出他们各自撬动石头至少需要多大的力吗？从上述的运算中我们观察出什么规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3795"/>
          <p:cNvSpPr/>
          <p:nvPr/>
        </p:nvSpPr>
        <p:spPr>
          <a:xfrm>
            <a:off x="1403280" y="3213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小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600/2=3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3796"/>
          <p:cNvSpPr/>
          <p:nvPr/>
        </p:nvSpPr>
        <p:spPr>
          <a:xfrm>
            <a:off x="1403280" y="2347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小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600/1=6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3797"/>
          <p:cNvSpPr/>
          <p:nvPr/>
        </p:nvSpPr>
        <p:spPr>
          <a:xfrm>
            <a:off x="1403280" y="400536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小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600/3=2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3798"/>
          <p:cNvSpPr/>
          <p:nvPr/>
        </p:nvSpPr>
        <p:spPr>
          <a:xfrm>
            <a:off x="611280" y="4940280"/>
            <a:ext cx="7056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发现：动力臂越长，用的力越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3799"/>
          <p:cNvSpPr/>
          <p:nvPr/>
        </p:nvSpPr>
        <p:spPr>
          <a:xfrm>
            <a:off x="2646360" y="56088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即动力臂越长就越省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567000" cy="8269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539640" y="1557360"/>
            <a:ext cx="7921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电学知识告诉我们，用电器的功率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单位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、两端的电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单位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及用电器的电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单位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有如下关系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=U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这个关系也可写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= _________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= 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3" descr=""/>
          <p:cNvPicPr/>
          <p:nvPr/>
        </p:nvPicPr>
        <p:blipFill>
          <a:blip r:embed="rId2"/>
          <a:stretch/>
        </p:blipFill>
        <p:spPr>
          <a:xfrm>
            <a:off x="4643280" y="3284640"/>
            <a:ext cx="567000" cy="8269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3083"/>
          <p:cNvSpPr/>
          <p:nvPr/>
        </p:nvSpPr>
        <p:spPr>
          <a:xfrm>
            <a:off x="324000" y="33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问题与情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9"/>
          <p:cNvSpPr/>
          <p:nvPr/>
        </p:nvSpPr>
        <p:spPr>
          <a:xfrm>
            <a:off x="250920" y="34146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电学知识，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=2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50920" y="189000"/>
            <a:ext cx="88930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个用电器的电阻是可调节的，其范围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2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欧姆。已知电压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2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伏，这个用电器的电路图如图所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输出功率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与电阻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有怎样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函数关系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用电器输出功率的范围多大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4111" descr=""/>
          <p:cNvPicPr/>
          <p:nvPr/>
        </p:nvPicPr>
        <p:blipFill>
          <a:blip r:embed="rId1"/>
          <a:stretch/>
        </p:blipFill>
        <p:spPr>
          <a:xfrm>
            <a:off x="6588000" y="1484280"/>
            <a:ext cx="2287800" cy="19018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4112"/>
          <p:cNvSpPr/>
          <p:nvPr/>
        </p:nvSpPr>
        <p:spPr>
          <a:xfrm>
            <a:off x="7380360" y="2492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11" descr=""/>
          <p:cNvPicPr/>
          <p:nvPr/>
        </p:nvPicPr>
        <p:blipFill>
          <a:blip r:embed="rId2"/>
          <a:stretch/>
        </p:blipFill>
        <p:spPr>
          <a:xfrm>
            <a:off x="1619280" y="4221000"/>
            <a:ext cx="2455920" cy="122904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4114"/>
          <p:cNvSpPr/>
          <p:nvPr/>
        </p:nvSpPr>
        <p:spPr>
          <a:xfrm>
            <a:off x="5796000" y="4653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539640" y="3860640"/>
            <a:ext cx="813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电阻的最大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=2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入          式，得到功率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小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39640" y="333360"/>
            <a:ext cx="54723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用电器输出功率的范围多大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11280" y="134136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根据反比例函数的性质可知，电阻越大，功率越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电阻的最小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=1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入        式，得到功率的最大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5133"/>
          <p:cNvSpPr/>
          <p:nvPr/>
        </p:nvSpPr>
        <p:spPr>
          <a:xfrm>
            <a:off x="5076720" y="2133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9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2837160" cy="92700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5137"/>
          <p:cNvSpPr/>
          <p:nvPr/>
        </p:nvSpPr>
        <p:spPr>
          <a:xfrm>
            <a:off x="5148360" y="3860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ject 9" descr=""/>
          <p:cNvPicPr/>
          <p:nvPr/>
        </p:nvPicPr>
        <p:blipFill>
          <a:blip r:embed="rId2"/>
          <a:stretch/>
        </p:blipFill>
        <p:spPr>
          <a:xfrm>
            <a:off x="2484360" y="4508640"/>
            <a:ext cx="2836800" cy="927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539640" y="573408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用电器功率的范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68360" y="54936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一想，为什么收音机的音量、某些台灯的亮度以及电风扇的转速可以调节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还能举出生活中的哪些用电器用反比例函数性质工作的例子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156"/>
          <p:cNvSpPr/>
          <p:nvPr/>
        </p:nvSpPr>
        <p:spPr>
          <a:xfrm>
            <a:off x="1476360" y="3573360"/>
            <a:ext cx="35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6157"/>
          <p:cNvSpPr/>
          <p:nvPr/>
        </p:nvSpPr>
        <p:spPr>
          <a:xfrm>
            <a:off x="395280" y="2565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答：这是因为里面有可变电阻的原因，可变电阻增大时，电流经过的少，就调节了台灯和电风扇的转速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19T02:57:11Z</dcterms:created>
  <dc:creator/>
  <dc:description/>
  <dc:language>en-US</dc:language>
  <cp:lastModifiedBy>zhangyafei</cp:lastModifiedBy>
  <dcterms:modified xsi:type="dcterms:W3CDTF">2016-07-19T02:57:40Z</dcterms:modified>
  <cp:revision>1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